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32E-451B-46D7-A94D-5AB811C7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EC3-5DDD-47D5-81DD-79D76B6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644-B8D3-4377-B90F-6675B011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0B8-AD91-490E-8252-D9CB0A3C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660-83AC-46EC-9A7A-13FF73D4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766-D9C0-4735-87FB-CD26CD7A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F12-592C-4A78-8ED8-A739325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8EB-CE39-4E4F-9E5D-1225D4E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C38-06D8-44F7-BD49-1C27E83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C77-F72C-403A-B188-C261911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6BA-5B6F-44DE-BD49-4C45B8A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81A-B61C-4C1C-AFD8-7266185B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00DF-E826-48C1-BA2B-0A3384B1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4868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14T19:20:30Z</dcterms:modified>
  <cp:revision>391</cp:revision>
  <dc:subject/>
  <dc:title>Diapositiva 1</dc:title>
</cp:coreProperties>
</file>