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963-0EEF-47AE-B2FF-8FCFEC2D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5F2-A69D-473A-9934-6B64ED75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09A0-ADC9-4409-BC36-A6B0E73D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12C-C79F-4F3A-8742-6DE777A7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483-3350-402C-8B0E-6C2C2A6D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E9C-2A9F-4C65-B6A0-8EAEB323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963-DD83-4112-A1D2-4E28E891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AD1-16D5-490C-AD6E-AB19DF0B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548-10C1-44D7-AF32-5662D3DD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22C-4EB8-4351-9462-1CDF5528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01D-3F5D-4EBB-95D0-B1BA1FB2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F03A-45BF-4316-8C8D-A0C9DBAC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621A-01C0-4F12-9218-458F83C38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005360"/>
            <a:ext cx="4894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</a:t>
            </a:r>
            <a:r>
              <a:rPr b="0" lang="es-UY" sz="4400" spc="-1" strike="noStrike">
                <a:solidFill>
                  <a:srgbClr val="ffcc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1640" y="5157360"/>
            <a:ext cx="40640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4-28T00:15:56Z</dcterms:modified>
  <cp:revision>508</cp:revision>
  <dc:subject/>
  <dc:title>Diapositiva 1</dc:title>
</cp:coreProperties>
</file>