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158-AEC2-496B-894F-1D704D1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2AD-E02E-44A4-8675-56784C21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9EF-6A34-4F29-9A04-C50627E7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71B-CB39-4BE5-A8EA-FA2E7C9E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4C6-5CDF-4441-9CED-5C774A6F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FD1-7215-4A00-8756-454EBBA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07C-919D-47F6-8923-442551D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035-6C5D-4A5C-8177-A6B7752B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DCE-1BDB-4D55-8E68-C80B411B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F3C-C52B-479C-AD8C-87039AAA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663-2AB0-479F-B78F-153E966E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7D3-CC3C-4D7F-BD44-67DDDA6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B8C8-CDAF-408B-9960-FFB853BF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15:39:20Z</dcterms:modified>
  <cp:revision>25</cp:revision>
  <dc:subject/>
  <dc:title>TITLE</dc:title>
</cp:coreProperties>
</file>