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429-EA52-4454-8375-6D9B4F6B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507-8F9A-4F65-953E-E24429C5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20C-23EB-45DC-A9F9-857D9D00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457-87F8-4B60-99C2-E60D81BD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EC0-DA19-4075-9908-49FCB07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6C5-1D82-4729-8E6E-03DFE3CC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A49-56B2-490F-A2E2-888C56E7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901-2902-4606-889C-9650202F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6D4-A063-4B38-B089-0A15C33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311-93C4-45FD-ABEC-8133411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D55-4D6C-4535-AAD9-090A4C55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4D5-BCE2-4CAC-A021-48C83FE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7A3F-4E61-4D51-87BE-35D05F4C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01T18:16:03Z</dcterms:modified>
  <cp:revision>436</cp:revision>
  <dc:subject/>
  <dc:title>Diapositiva 1</dc:title>
</cp:coreProperties>
</file>