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B13-6C86-43F6-84E6-3EBEEEC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FAD-7232-436C-B79C-1F5A65A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378-914D-4445-A211-98EE611D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6D2-06A5-41B9-8452-AC1690B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271-D0C9-4ADB-A006-EDE9A035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6B9-E1E0-44CC-A303-877A6EFA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3AA-7D23-41E9-A56E-76DA457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421-99A0-4C9B-BA26-7D871A9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5EC-A78F-42FE-917D-FF8B259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12E-9338-41B9-B6EA-BE67163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53E-7202-4EB4-B880-9A729BC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646-F918-4C0A-B09E-A2FBF0DA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266F-1AA9-4C8E-8745-EE1E26AE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5082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300640"/>
            <a:ext cx="66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333333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7T19:25:45Z</dcterms:modified>
  <cp:revision>620</cp:revision>
  <dc:subject/>
  <dc:title>Diapositiva 1</dc:title>
</cp:coreProperties>
</file>