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D55-C86E-4B0D-B6C9-5DDFDB61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13C-5108-4E9F-A75E-55B9816E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41B-0F87-4FD5-9DA3-6929A617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C21-F679-4587-B5DD-A786D831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160-2A31-46A0-B485-F73827FB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3AF-1F26-41DA-89C1-F611A17B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08A-A2F6-448D-92C4-08161ED6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FD7-33CE-435F-B502-3E191FA8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F11-2473-4AA0-827B-D6F88E44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01F-FC9A-42CF-8DF9-C18014E1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669-D2EE-4EFE-B2FE-6E67F340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89C-7924-463B-AABC-A7CE983D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1FB8-A45E-44B8-961A-AF1B58590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34936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3-07T13:22:25Z</dcterms:modified>
  <cp:revision>442</cp:revision>
  <dc:subject/>
  <dc:title>Diapositiva 1</dc:title>
</cp:coreProperties>
</file>