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3AD-7EBB-40F9-84EB-9859C518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E6A-0ACC-4CC1-9AC0-4115ABC6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520-79D2-4D47-9F63-E3AF79B1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261-9FBE-482B-BF33-F5BD0697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C50-1A61-4E57-8187-F446BB7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455-B10F-40B5-A06F-3E797A59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C71-21CA-42B6-89DE-9B14C82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289-A4D5-4311-912B-92787B3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0AE-0BCE-4DA3-B2FA-D8EA56A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95A-F27B-4706-831E-99D195B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7DA-7F94-43EE-BF22-5A106A53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414-F5E3-4AB2-80E5-464177B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25E5-EE68-4D12-8AAD-6DA753FB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18T15:52:25Z</dcterms:modified>
  <cp:revision>483</cp:revision>
  <dc:subject/>
  <dc:title>Diapositiva 1</dc:title>
</cp:coreProperties>
</file>