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C1D-E5FA-451C-81C1-E99A40A2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CBA-03BD-44C8-9FF4-D73508B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0E1-8E7C-4993-B830-D2BA0D85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55B-0B95-4937-9BAD-CD8176E6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4C1-A5B7-460B-92A2-34527C5F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F49C-EA47-4214-A597-A37F2A4B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9622-D5B6-4341-BF33-257AF70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08BD-61F6-4915-ABAE-7EA95CA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7AAA-0DBA-446C-BD9D-446C9DAA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DBB6-7F5D-4594-87D0-B052F2F1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7ACC-95D7-4EEB-97B2-661A022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D80-E99A-474F-B539-FE4D48DF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F14B-8687-46A7-80D9-5BD6408E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182-470E-4518-9315-58281F0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90A2-7E73-4674-B46C-9F8A2E3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0CF6-2E21-4303-818E-44337FEB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193E-B191-42E2-844C-7C61FEA3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83E-0DBF-4FD3-95F3-4C06371C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B87-1946-46C4-9395-240FC30F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51F-1362-49F1-8F8B-49533560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0E2-2CDA-4784-BA59-E4C78DC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BB8-7D8F-48B9-9206-6ACC7BA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0FA-D7EC-42C7-BD75-CF2CA14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A6D-C272-402D-AB11-500D1E8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7C8D-9A1B-4E4A-BB50-B5024525D9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D515-16F6-464E-AD93-1CCCC5D4AC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3640" y="551628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Julian</cp:lastModifiedBy>
  <dcterms:modified xsi:type="dcterms:W3CDTF">2011-08-02T17:47:21Z</dcterms:modified>
  <cp:revision>622</cp:revision>
  <dc:subject/>
  <dc:title>Diapositiva 1</dc:title>
</cp:coreProperties>
</file>