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80E4-2BF0-470C-94C2-A96902CFA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EA4D-5727-4E09-B871-A4ABF7285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F6B5-F3DC-484D-9805-994B5074D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7FC5-DEA3-43CD-9B77-460F0B7C3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E113-CCF8-4562-90B4-301315765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1663-38CE-4291-9ACE-C6285B075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0E31-D785-4DC5-ACC6-F56E8CAB4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C469-8683-416B-AB8A-80741D25F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44BF-C1F1-467B-A1DF-CC6E23D52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69B9-C05D-49F2-8F61-281B89C0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C11A-A087-4666-8F93-B3D920B0D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F2A5-D4E0-45D2-AA21-6A0F6EED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E4EED-5B4B-4C52-B25F-6673FF13EC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23640" y="4365720"/>
            <a:ext cx="48942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Presentation </a:t>
            </a:r>
            <a:r>
              <a:rPr b="0" lang="es-UY" sz="4400" spc="-1" strike="noStrike">
                <a:solidFill>
                  <a:srgbClr val="ffcc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84000" y="5660640"/>
            <a:ext cx="406404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Subh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4-28T00:17:31Z</dcterms:modified>
  <cp:revision>509</cp:revision>
  <dc:subject/>
  <dc:title>Diapositiva 1</dc:title>
</cp:coreProperties>
</file>