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35D-8234-48AB-A6FB-112D8C05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66B-E967-46ED-B840-037A61D2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3D6-B04F-4970-AC22-958B6CD7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C70-BCBD-4FF0-8B46-8892A4EB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ABA-91FF-462D-B399-BBD66165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864-F404-416D-A22B-2911C557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5B6-48C2-43C7-91C2-891561A8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DD3-3B25-45E5-8A4A-121B73EC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031-6F8A-4821-A84B-E9BE7B92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E4D-4E37-4344-8EF7-73ACC7DD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8B4-08F1-45F8-B27E-97621C36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05F-0708-45EA-8E2B-547D885F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958F-0AE2-4930-8DDB-2A282E340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5300280"/>
            <a:ext cx="4537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5973840"/>
            <a:ext cx="37767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06T17:17:17Z</dcterms:modified>
  <cp:revision>570</cp:revision>
  <dc:subject/>
  <dc:title>Diapositiva 1</dc:title>
</cp:coreProperties>
</file>