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A74-C0C6-419C-90E9-B4608FCC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B6C-F7BB-4B8E-9C5A-35A36B00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558-D78E-4F97-9C1A-B6EE6960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788-99E7-43FF-AF17-099442D1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006-821E-4B58-9255-4A2E7919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AF8-CEE7-4407-97BB-6B76250E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D85-B424-46B7-82BB-E1595BAF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096-E578-46E4-9261-8E76228B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382-853A-4310-A5E2-FC650169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895-5519-4D44-AA07-5B5B5EDD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D8B-FEE6-4DFC-A3A3-E4432A78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1EC-7266-492A-9C94-65094395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B3E7-5D24-42D2-85F5-A6E5F9A3C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Real E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6T21:51:18Z</dcterms:modified>
  <cp:revision>9</cp:revision>
  <dc:subject/>
  <dc:title>Diapositiva 1</dc:title>
</cp:coreProperties>
</file>