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E58-A432-411C-9567-0A8D2E4B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0EC-847E-4B82-A4B7-2A0D5FBA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3E9-C943-4DB1-AAD3-87259455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2DE-6109-4A80-A855-AE2223D0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D05-D374-4793-8417-A5CF3C1E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71E-04A2-4EB8-857C-E33B9E26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62F-CBB9-4C4D-8C05-724DA8EB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E15-8026-48DC-ACF9-9FDC2E6E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C86-40BA-4CDD-B073-23F26AA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8C5-9507-4F19-9B9A-D4AAADFE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B39-026E-4063-89BE-EC64545E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2A7-2A35-46E4-9F12-3A82A881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995D-2A1F-4274-A469-6DE1380D8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1-21T15:19:23Z</dcterms:modified>
  <cp:revision>32</cp:revision>
  <dc:subject/>
  <dc:title>Diapositiva 1</dc:title>
</cp:coreProperties>
</file>