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26F1-E4FF-4816-A059-2A0EA98D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4278-1BE8-4DFA-B646-96A0E0B8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FCBC-3D8A-4C1D-9F2A-ABF6C738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0F06-F9A1-49DE-BBC7-4963D05B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15B7-E7DB-4D6D-A322-7DC98CFA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E396-C714-4625-ACD0-C688C0B9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A73D-090A-4190-AB5A-9B88B5CB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3D41-812C-4DCD-9CEF-31730E5F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BCF4-7BB9-4617-95E8-201F9E92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AA69-A9FD-4F38-B1FF-7D73985B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DC14-85B2-40AE-8E9F-CD3E0580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4672-C272-4782-8B3A-8EB03A4C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021C-D49C-4D64-A5E6-215A5A91F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125000"/>
            <a:ext cx="48960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9-25T22:41:45Z</dcterms:modified>
  <cp:revision>695</cp:revision>
  <dc:subject/>
  <dc:title>Diapositiva 1</dc:title>
</cp:coreProperties>
</file>