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674-C263-4E52-AF9F-CB6EEDF3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F06-8409-42F5-B74D-2553173C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87C-A74F-4B12-93D8-A84F0972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597-337E-4931-91B4-A290DAC3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EFC-2391-4548-ABAF-C89491E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3BC-A59E-4A6B-8CB3-10924BC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5CB-1F7C-4BBE-9C03-1DDB1A3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FA3-9942-4910-8BE9-7FA15240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39A-AFED-4F9E-9AE4-57459A6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73B-ECE0-4049-A41D-8F1CE06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2D0-EF90-4306-8514-0E14F37E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118-E73E-40BE-AF4B-C4C90CB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713E-BCA0-4C23-A1F0-26C38BFA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941360"/>
            <a:ext cx="5040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373720"/>
            <a:ext cx="5040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1T13:40:10Z</dcterms:modified>
  <cp:revision>721</cp:revision>
  <dc:subject/>
  <dc:title>Diapositiva 1</dc:title>
</cp:coreProperties>
</file>