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71A-218C-4610-8E0F-1FF4EA8C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2D2-717D-478D-A209-403B150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FA4-1F2F-4D0F-87D4-2BBE6491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96C-E782-4EA2-9316-B186C2B3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71D-AFC8-49C2-9939-1D9B6230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728-B6A4-449A-B5E0-C7EC21D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39C-D69A-424B-9A91-E378D89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4FF-FA84-439C-83B8-65651E4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254-6D69-48BF-96FA-11956376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578-48A6-4B82-B228-87439D6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825-C7F2-4B5E-92D5-DDF72C4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E24-3255-4FFE-B815-ACC41BE5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EBE-3D87-4BA4-8369-71DFF9107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000" y="386028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4437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0T15:42:00Z</dcterms:modified>
  <cp:revision>704</cp:revision>
  <dc:subject/>
  <dc:title>Diapositiva 1</dc:title>
</cp:coreProperties>
</file>