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CBB-80FB-4D4B-A536-56FC43BB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888-FEB4-4BD0-9DE8-ABF26EC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471-190F-42EA-9B6B-C7E81BCB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104-CDB1-45BD-8E83-34DD5AD3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836-0428-4DE4-90BD-65001C28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47F-1D8F-480C-A92E-B57175DF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9D8-2F98-4EBC-A08D-EE754DC8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8AE-13A2-4F63-8BAA-440D6461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945-0DA4-4BE8-B853-7D015D16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FA2-18F6-41DE-8F22-1E9144D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4E9-83A2-4241-9437-AEDB0052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2C0-F170-4411-84AA-4CD69FF1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8E49-0AFC-411F-9AB6-E18A92D9D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468432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515772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3T14:38:53Z</dcterms:modified>
  <cp:revision>707</cp:revision>
  <dc:subject/>
  <dc:title>Diapositiva 1</dc:title>
</cp:coreProperties>
</file>