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E4D-755C-4605-8D75-956FC640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A51-FC39-4CFE-921E-12F28803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BE1A-CEB7-418B-BC58-1E6E309A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872B-703C-45F9-B6FE-88546B829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1311-B910-48C6-B237-BB85330B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283-E68A-400D-A812-3B166C255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A1C0-EB56-4AB5-9571-E1F70E336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92E4-AE69-4575-A5F3-FC57CB13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5F38-210B-487C-A474-91353F3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5DAE-93A0-4C2F-89B6-4554E2F3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CD7-67AB-47C2-AB80-D7DAEA75D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D2B-2898-44CF-9954-3535280E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AE6-3DA2-4635-AC36-CE27BB609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5280" y="5013360"/>
            <a:ext cx="5184720" cy="54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006666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64000" y="5516640"/>
            <a:ext cx="51847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6666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3-30T14:12:17Z</dcterms:modified>
  <cp:revision>625</cp:revision>
  <dc:subject/>
  <dc:title>Diapositiva 1</dc:title>
</cp:coreProperties>
</file>