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812B-6514-4940-9EA4-78E19425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0A95-0553-4E07-AE67-67D6DB2D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D972-CD0E-4C84-811D-B4F4D9C8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80F2-2F47-4318-803E-300824E8C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7FF-CA7C-45C4-89FD-7CFBEBA2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2FCD-ED0F-4DC9-A8C6-B27A9FA8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7043-C974-4518-B8F1-B96C6E26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0219-9A94-448F-9162-BA69134B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78AC-219E-4994-818E-BDF49CE5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AA3-6CDE-4EFC-9230-5D99769E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2A42-39DA-4575-87DA-43415A5B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2D14-93F8-48F8-8FFB-A7D63E7A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4ECD-144B-47D6-AD8F-1427B4F09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640" y="4365720"/>
            <a:ext cx="45370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8000" y="5084640"/>
            <a:ext cx="399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2-29T17:59:33Z</dcterms:modified>
  <cp:revision>577</cp:revision>
  <dc:subject/>
  <dc:title>Diapositiva 1</dc:title>
</cp:coreProperties>
</file>