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524A-D12B-4AC1-B533-A799818CA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CC06-D5EF-4552-8E20-3444444E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2823-4401-4EB2-9746-852CD8E6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D333-DD97-4D29-BEE7-C4C70D12C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BFD3-6CC9-4DAD-A99B-208A496B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4D69-E9A8-4099-9A88-2D3C0602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B4F4-9B4E-4CB3-9B12-9691F9B8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CAD6-C0D9-4F10-9161-808B77D3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7EE3-9B8F-41BA-AE1F-1AA06977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604C-6655-48AD-A2CA-9C00E952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39D2-46BA-42B3-8E99-6C5082BB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906E-4C9E-47FE-83D2-93EEA54E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6E51-D918-4B19-BBB9-CD4B2F74E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4292640"/>
            <a:ext cx="45370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920" y="4965480"/>
            <a:ext cx="399276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2-29T17:41:38Z</dcterms:modified>
  <cp:revision>575</cp:revision>
  <dc:subject/>
  <dc:title>Diapositiva 1</dc:title>
</cp:coreProperties>
</file>