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60B-EF91-4524-B1AF-C4735699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F9C-A042-43F2-A532-4068DFBF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C25-AADE-4DF0-90CE-B8F13635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CC3-BEDF-42B5-8446-E4F707DC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A76-1843-42C0-AC0A-429AFE7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50B-839F-481D-BB20-CC368FDB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539-956D-435F-BF86-DA568651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93A-D871-48C1-91B9-77DDFD37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E46-7D60-4926-AD3A-29BB9ACC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DC5-BAF1-41DC-B3EA-086310B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155-AB10-43BA-9F52-741D9AE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5BB-1BE1-413E-8B03-1E89089E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006-5A0D-4C12-AA5D-8DC29825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66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1T12:12:27Z</dcterms:modified>
  <cp:revision>723</cp:revision>
  <dc:subject/>
  <dc:title>Diapositiva 1</dc:title>
</cp:coreProperties>
</file>