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6F8-304B-424E-9BCF-7EE50FE3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843-000C-4757-A8B5-3F0E847E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192-9831-440F-B8BB-21256848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6DB-FEA3-4DDD-BF10-F3A8B723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1C5-A6C7-42E5-93AE-A8A52F05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F42-06E3-4BF6-83A1-572FFE1A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8F2-AE80-46BF-A436-E8A3AD1D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C8E-9581-4D8F-AEF2-096BCDF8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E61-E577-400D-8AFB-281B6D6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EC8-E677-41AB-A702-9CD5749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E0F-D2AE-433F-82E3-F87F38A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690-0DCB-4014-846F-DD4A2AA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DC3-F4B7-4A78-8CF1-A983EFF4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221000"/>
            <a:ext cx="4105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522936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16T16:20:28Z</dcterms:modified>
  <cp:revision>834</cp:revision>
  <dc:subject/>
  <dc:title>Diapositiva 1</dc:title>
</cp:coreProperties>
</file>