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6A9-43A4-4E88-8389-B015EC9E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CA4A-32B7-4629-AE04-6E8E84EF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B87-A3F0-45AC-A891-888FB89B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7BCF-439F-47FB-A570-29272E92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66C-8476-4745-A329-1948FB90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F02-A2B1-43BB-A091-D27DFE50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105-A329-483C-A965-5910229A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AB5A-62B1-4099-B34A-BC324BE5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088B-25C9-4DE8-9D66-20EB3A91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2089-088A-4D16-8770-7426AD6B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3DA-3671-4422-A232-3866A149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6F22-7329-424C-BCBC-356FEFE5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0E66-10B4-4058-9448-5A053CEDD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221000"/>
            <a:ext cx="41050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2560" y="5229360"/>
            <a:ext cx="3457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1-16T15:59:00Z</dcterms:modified>
  <cp:revision>832</cp:revision>
  <dc:subject/>
  <dc:title>Diapositiva 1</dc:title>
</cp:coreProperties>
</file>