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D8A0-E8DB-4066-8E56-51226CBAE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E518-8EDB-43D1-9793-2D4F9680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D1E6-A2DA-4332-963A-6ED7F152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E41A-683D-4C39-A07C-DC03510F7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9D6B-3854-44FE-B560-DF464CA5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F950-B69E-4044-9A6C-B1211C2D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BC8A-4687-48E1-90EA-25072E74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3B96-2CF7-4347-988A-C908611D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0545-4FBE-440A-836D-8D728257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4F35-FBD8-416E-8F89-AA274F3D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D392-158B-4742-A6FD-41E35156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E131-5C16-432F-AD95-8E49362C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C3CE-B0EE-49E6-A1D9-FC37A9CA6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4365360"/>
            <a:ext cx="5329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5373720"/>
            <a:ext cx="3744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1-16T13:22:11Z</dcterms:modified>
  <cp:revision>821</cp:revision>
  <dc:subject/>
  <dc:title>Diapositiva 1</dc:title>
</cp:coreProperties>
</file>