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D779-9B42-4AAF-A808-300962B46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6B76-A9F6-4E5D-ADCB-BDDAFA74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37A6-6959-4E9A-B5F0-09AC8A6E8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D061-3E6A-41AA-A077-5C36C1776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56A8-7C9C-44B5-BF8F-65A496B4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0594-D309-4C57-B22E-B69BDFBB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4CB2-5498-48D5-875B-5793F721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70D5-8CDC-46EB-A8AB-E8834063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5BD7-6040-419B-9665-469BCB9D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43B3-3847-46B8-A51D-183A301F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59B0-8CDE-4DA8-8F4E-6C401B2F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3573-5380-4A97-8EDC-38BE4C1A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00B7-BC97-4CF5-94B4-6258DAC8E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6000" y="1557000"/>
            <a:ext cx="5977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006666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1-11T17:48:11Z</dcterms:modified>
  <cp:revision>820</cp:revision>
  <dc:subject/>
  <dc:title>Diapositiva 1</dc:title>
</cp:coreProperties>
</file>