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7092-3737-4E4C-8DA7-A423F757D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E5A2-A246-47BE-AFC1-B7B9D05B2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5D31-DA7D-4C24-A4FC-FF61E7B8E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C91E-019E-45A6-A5AE-7E610F1E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2685-471D-4D76-888B-930E781FF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BC43-5FB3-4C2C-9A7D-01AE5483A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2400-862E-49C7-AB6B-65B4546AC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CB5E-41E2-4775-ACC6-5AC175348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060C-F3B3-4325-82C3-3FAE94DD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F6E1-9F94-4001-BD7E-14937F94E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507-3418-4B42-868B-8EBC4DB77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9460-54CE-4170-A6D0-7186C82F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3CC11-7965-4A9B-A921-ECA5AF54D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58920" y="3860640"/>
            <a:ext cx="4824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200" spc="-1" strike="noStrike">
                <a:solidFill>
                  <a:srgbClr val="ffffff"/>
                </a:solidFill>
                <a:latin typeface="Arial"/>
              </a:rPr>
              <a:t>Presentation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716360" y="5084640"/>
            <a:ext cx="410364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y name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project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Mariajose</cp:lastModifiedBy>
  <dcterms:modified xsi:type="dcterms:W3CDTF">2012-01-10T13:58:33Z</dcterms:modified>
  <cp:revision>809</cp:revision>
  <dc:subject/>
  <dc:title>Diapositiva 1</dc:title>
</cp:coreProperties>
</file>