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005-36A4-4423-B2D7-ABD24D7C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CF8-F576-4E56-853A-1BB8084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3D1-7BF2-424B-8E7A-87A4EFA4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C5F-76BA-4877-89D7-561AF34F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9B6-0702-4871-850D-91AAF80B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D7B-E9BF-4C5D-B3D7-E9EE6090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17D-5AE7-45F8-B314-3AD4B01C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6B4-00CD-482A-A415-E25484F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744-5A46-4A73-B9DB-ABC8B711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D08-F171-4336-8FFE-C3C763B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2AF-96C9-4A11-8B98-261FF9A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06B-845F-43E3-BBFD-3589FD4A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9983-CF83-44F7-8C1B-5C12CD9E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0" y="494172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505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4:05:10Z</dcterms:modified>
  <cp:revision>787</cp:revision>
  <dc:subject/>
  <dc:title>Diapositiva 1</dc:title>
</cp:coreProperties>
</file>