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88F-2455-4DBA-B940-2C0EE39C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854-E712-476E-AAC8-CD52A6F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29A-72F2-4101-BEBE-3C8B3035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03B-5C43-4DFE-8DE8-A9673A24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F9C-04BB-49AE-B022-151FD28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2BE-DAB8-44F1-B86A-39A04AD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A3E-D211-4501-832B-476921ED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292-6091-4E49-BB30-3F907D09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DC5-6A94-4CBF-96D4-D025FE1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CD9-64D5-465B-8634-81BD04E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05D-80B8-4717-814B-BBB041F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13A-BACA-459F-9093-B82D40F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31C-415A-4348-B437-9B8CF59F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396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58972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5T14:52:21Z</dcterms:modified>
  <cp:revision>767</cp:revision>
  <dc:subject/>
  <dc:title>Diapositiva 1</dc:title>
</cp:coreProperties>
</file>