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2916-D3BE-4F4D-9DA6-33A5AE19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1CF5-8C4A-447A-9B21-AD6F90AB2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2FF-AF84-4C1F-9E8E-4241C1EE6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B723-7EB1-4D54-B0EF-03580ADB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79CF-0D9E-4248-B952-9C60A370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DD7C-CF95-48CB-8989-54A9CB0E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29C-4DDC-4F70-90FF-008998F60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6C3C-CC4B-47ED-B726-C810C30CD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770-56C2-408A-BA73-A27E3B6E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4CDB-2BED-427A-9C15-F1837914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1C8-E21E-433B-9BF5-FA40DFEB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4C00-17BC-4781-8BA7-D024F53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8CA33-659A-4301-A784-DDCEF83776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96720" y="2997000"/>
            <a:ext cx="5688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003399"/>
                </a:solidFill>
                <a:latin typeface="Arial"/>
              </a:rPr>
              <a:t>Presentation Tit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03T13:14:18Z</dcterms:modified>
  <cp:revision>722</cp:revision>
  <dc:subject/>
  <dc:title>Diapositiva 1</dc:title>
</cp:coreProperties>
</file>