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31B-1E39-4B47-8C92-50C8AEEE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812-BA43-48A1-84AA-26A8026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7D6-3BF4-4F30-8D64-CA1CD819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17A-D780-4177-B2BB-D2DA6919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708-E896-49AF-B786-E43A0984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30B-9272-4590-94E2-674BC35A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5AE-1603-4C1D-B814-E7CCFA3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4B2-965E-4B62-A085-215FC61C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00F-4F37-42C3-A67C-B1507C2C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4C4-1EB4-4A2D-A0D6-04E64BA7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FAD-DACE-4BA7-BA8C-FADBFF73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999-7A8A-4456-B3EB-F562377F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CF1-FB3E-4E4F-9331-2F07F88A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797360"/>
            <a:ext cx="53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373720"/>
            <a:ext cx="53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29T18:24:17Z</dcterms:modified>
  <cp:revision>781</cp:revision>
  <dc:subject/>
  <dc:title>Diapositiva 1</dc:title>
</cp:coreProperties>
</file>