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DFF-9ADB-4F03-AEE3-7798D0FA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166-291E-4BC5-9D3F-4EEB5AB4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17C-6A01-47DC-BEC9-DBAD1995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D84-5FBA-4192-8F38-A3D29A5F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467-4822-49BE-8FE8-2E06D60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7EA-170B-4223-9CA7-D86D2C2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DA-DDC6-468A-9408-AE633D64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C14-10B5-4C72-ABA4-218CDEA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240-9A3D-428D-AED0-5B80EAF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F35-7EEE-421B-800F-B3564DE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156-CC91-400C-BAED-BC7A7A5B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59F-7F59-40D9-BB70-5B4633F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F28-180D-41DD-ACF3-11E38C6E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508428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7340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23984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23984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239840"/>
            <a:ext cx="84470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9T15:58:23Z</dcterms:modified>
  <cp:revision>740</cp:revision>
  <dc:subject/>
  <dc:title>Diapositiva 1</dc:title>
</cp:coreProperties>
</file>