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CD5-334F-4494-920D-6DEB0146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275-4ED6-474E-9B3E-CFC8BAAD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3F4-7C33-4461-A77E-5ECBC517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386-009D-48D2-83BD-DC4B62C5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B1A-C598-4A6B-9C4C-2330A97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594-636A-412E-B5D2-57664E98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3A2-18A2-44CF-96FD-F598B34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FF0-AE66-417F-98D6-424F156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E0A-632B-499A-B74D-E142E4C2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0A9-DD4C-45E4-A82C-A73057F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BA2-5C68-4772-9C4F-068EF848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720-18F1-4DBE-A70D-579CAC8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810F-1570-4F6E-A5F3-482BF23F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2806200"/>
            <a:ext cx="75610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6T15:31:28Z</dcterms:modified>
  <cp:revision>731</cp:revision>
  <dc:subject/>
  <dc:title>Diapositiva 1</dc:title>
</cp:coreProperties>
</file>