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BE2-FD31-44F6-8E36-9C37D8E4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2B6-1094-40DC-B6D1-40C2DD27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E21-04B1-45E3-A930-29C526E6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D9D-02A0-4BEB-A230-088F3E9B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4BF7-FB6B-467F-9A86-3E021E72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012-484E-4610-B7DA-3CDFE768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8DB-CFF7-4335-A1E7-E1417F51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E8C-DFF4-4C35-9C81-99DB70AD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96D2-2D9B-410D-8116-0AE3F72F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6A1-6586-4C92-AB84-E0CC310E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CA6A-7321-4C17-B60F-60E89A3C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E0DF-E3DE-4609-A5E0-CA0B9484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142E-D20E-41D5-B275-8B5CC1D75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5229000"/>
            <a:ext cx="5327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6-14T14:57:40Z</dcterms:modified>
  <cp:revision>599</cp:revision>
  <dc:subject/>
  <dc:title>Diapositiva 1</dc:title>
</cp:coreProperties>
</file>