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ED64-9B77-4A95-B981-66F17A7F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5AC9-1CCB-4CA3-BFF4-2FAB200A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6A72-5610-4DA5-9C5C-C3D0BCA0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07A5-CBC8-4CE1-B436-FEBFFC14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9FC4-5C75-491A-AA5D-217EF019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BED6-C074-4A0D-9745-80F0FE63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98C3-3AF4-46EE-B263-23BB8BE9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B911-93F0-4D59-B875-39103EDE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EA06-7E5F-4507-A214-601A3C16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015E-11F0-42E7-B93E-654B4878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43EE-C47C-484F-B95A-BF25AABA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4CAB-84A7-45A5-A575-A4F75B80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E9DF-0793-4197-95A6-3B385A961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7640" y="981000"/>
            <a:ext cx="5327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4-21T02:52:53Z</dcterms:modified>
  <cp:revision>493</cp:revision>
  <dc:subject/>
  <dc:title>Diapositiva 1</dc:title>
</cp:coreProperties>
</file>