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A6F-AAE1-4A7A-991C-0EF4F291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82B-DBA4-469A-B3AF-9CDD8278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048C-98E0-46C1-B9D2-CCB8B1C5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1770-340A-4E03-8C66-A8FFD2B4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3C7-6676-4215-9573-E4AD747B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553-6BE7-4504-8347-0BC6CC0B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4CB-E8AF-45B5-9788-E5E59909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ADC-51EE-4992-895D-B71A4BDD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8AA-E660-4A0D-8ADE-CC2969A5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CD9-D604-4DB1-BA89-BF8120FC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C98-FACA-4A0B-9D23-669485F2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4992-5F3F-48A9-BFFA-6D43341B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0F35-983A-45C4-987D-A30BBB09A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4-14T17:59:24Z</dcterms:modified>
  <cp:revision>483</cp:revision>
  <dc:subject/>
  <dc:title>Diapositiva 1</dc:title>
</cp:coreProperties>
</file>