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7D42-FE57-4DF8-A772-97F659B51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D99C-7724-49CD-A669-CFDCFA8E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BD7F-1B09-440F-93AF-1A234E973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28C1-63FF-48AA-A543-44FAA6A74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A798-9043-4433-8BAA-87345DA9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3187-C260-457C-AC2D-403E4FA5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0F96-1DD8-40CE-A216-CBAA2C99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6230-D34B-4AC0-9F63-216DF20D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8A0A-EC24-4D2C-81D6-A28D1A26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212A-D1F9-464C-AEAE-F733CF2F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EE36-2062-4676-8D2A-4DE197C6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F7D0-15BE-4479-8921-14A1FDAD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42E0-B44D-487F-A0D1-F8AE7249D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3-08T13:43:53Z</dcterms:modified>
  <cp:revision>447</cp:revision>
  <dc:subject/>
  <dc:title>Diapositiva 1</dc:title>
</cp:coreProperties>
</file>