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0E968-76E0-46F3-A86E-8C32B588F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4B8D8-37CA-4F4D-BC62-DC730DC5E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95A40-B8C0-4D5C-9A3C-9A26FBFEC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4E9A2-9D83-46EF-B8D6-8067AD5A9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5C1AD-CCBB-451F-AFF7-2F3AF70BC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EEB36-8CBA-4E2E-A0A4-F36DDA35A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C3857-3FBF-42E0-9BB8-85B3A4C29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DA757-0011-470E-96AA-CBC49E55D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EE7F7-9AF6-4B1F-A6FE-909176A86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D3C77-FF19-4FC8-851A-BEF9D696F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C8278-27B3-4318-BB34-22B1DEFAF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2C063-0794-4E48-88A1-CD1713985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7A957-B484-40D4-A1E8-BB02E1F65292}" type="slidenum">
              <a:rPr b="0" lang="es-UY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71680" y="6426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6T15:18:13Z</dcterms:created>
  <dc:creator>Arlo</dc:creator>
  <dc:description/>
  <dc:language>en-US</dc:language>
  <cp:lastModifiedBy>Arlo</cp:lastModifiedBy>
  <dcterms:modified xsi:type="dcterms:W3CDTF">2009-01-06T15:20:17Z</dcterms:modified>
  <cp:revision>1</cp:revision>
  <dc:subject/>
  <dc:title>Title</dc:title>
</cp:coreProperties>
</file>