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DD4-0C1F-4B72-8F65-EE1BDA12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07F-C160-456A-8149-C1460874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834-FF7D-4F5C-A931-5EED528D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2D8-9156-4FB2-839C-EF32AC4E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FF9-5FAF-40A5-B0F1-50E8A96F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F9E-7B58-4DC8-B47A-E859A8A4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E94-580A-469C-A9B1-47324140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60C-FCA8-409C-A923-1F2E39A5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C08-AB30-4957-8449-EEBE084A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C49-B0B7-4C83-990E-88D28FA4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186-8F30-4B97-8196-1B6C04B9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63B-8A9D-4D21-9C1A-97FFAC10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53AF-686A-4B49-B585-81DCDD8000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28760" y="3000240"/>
            <a:ext cx="3915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5488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44:23Z</dcterms:created>
  <dc:creator>Mariajose</dc:creator>
  <dc:description/>
  <dc:language>en-US</dc:language>
  <cp:lastModifiedBy>Arlo</cp:lastModifiedBy>
  <dcterms:modified xsi:type="dcterms:W3CDTF">2008-12-03T13:50:17Z</dcterms:modified>
  <cp:revision>25</cp:revision>
  <dc:subject/>
  <dc:title>Texto</dc:title>
</cp:coreProperties>
</file>